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wmf" ContentType="image/x-wmf"/>
  <Override PartName="/ppt/media/image4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A6BBB-2467-4EA0-89EF-B77B883729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73F26-43D6-4B41-9F3A-8C693CC14E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404EE-7074-4070-A465-F6C8207026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3E733-17C7-4BFD-B618-3D7BACCBAE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ACA6A-2915-4441-85F8-989BEF3C2C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CF6D6-AF7B-452C-A3DA-68605FB4DF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4DEB0-2651-46C9-AD95-0232993605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E43F1-4CB4-4DBD-8D26-60E890F1A1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9EF25-C1CC-4D93-B70C-4EF4A38E39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84865-77D3-4DE5-9897-19983D478C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13494-CD33-4614-A493-FFC585C5AD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A7C4F-73EF-428A-AB62-F92311F3B6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30AEB-D080-43DE-B68F-722597992D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0C4BC-7967-40E7-913E-9F73E979DC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3272F-865F-4747-9C32-C23BAAC2B9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C4313-2379-4FB4-A1BA-5239F8C247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9E709-8F1F-4473-B956-F6AA3BF7D4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26FB07-BEF8-4D3A-A82E-4DDA5E15F04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9627A5-0030-42E6-B922-057D2E8BD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C183F8-AAC4-4B46-9663-D4ED9710E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4795AB-9A1E-4D5D-A359-6DF240D6DCB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4EC291-9F91-48F4-BD2D-A7E59F00C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8482DD-4AA8-4BB9-B767-C8BA18081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10F3DD-97AB-409F-8130-935F3524D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3F280D-8206-449E-A67B-70F4E66F1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7DBC23-9944-4CFC-AB0E-D19E42ADA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CE1E29-07EC-43B3-820B-D4F642888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110268-E58F-4CBD-9F5C-AE2CB05F9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85AA6A-FD68-48B7-8081-D3EE42668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46040" y="6312960"/>
            <a:ext cx="5904000" cy="5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2010 Pearson Education, Inc. Publishing as Prentice Hal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-</a:t>
            </a:r>
            <a:fld id="{46360A38-C291-4948-81E2-861849D11D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903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roduction: Why Project Managemen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pter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6" descr="Cover.jpg"/>
          <p:cNvPicPr/>
          <p:nvPr/>
        </p:nvPicPr>
        <p:blipFill>
          <a:blip r:embed="rId1"/>
          <a:stretch/>
        </p:blipFill>
        <p:spPr>
          <a:xfrm>
            <a:off x="357120" y="2568600"/>
            <a:ext cx="2602080" cy="3505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F695DD-D54D-4E78-9771-B7B04EEF1D3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are Projects Importan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rtened product life cyc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product launch wind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ingly complex and technical produ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ergence of global mark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nomic period marked by low inf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E10DB5-5685-4463-823F-DF3621615D7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Life Cyc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2"/>
          <p:cNvSpPr/>
          <p:nvPr/>
        </p:nvSpPr>
        <p:spPr>
          <a:xfrm>
            <a:off x="358920" y="148428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 Ho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Group 11"/>
          <p:cNvGrpSpPr/>
          <p:nvPr/>
        </p:nvGrpSpPr>
        <p:grpSpPr>
          <a:xfrm>
            <a:off x="755640" y="1628280"/>
            <a:ext cx="7596000" cy="3529440"/>
            <a:chOff x="755640" y="1628280"/>
            <a:chExt cx="7596000" cy="3529440"/>
          </a:xfrm>
        </p:grpSpPr>
        <p:sp>
          <p:nvSpPr>
            <p:cNvPr id="74" name="Line 5"/>
            <p:cNvSpPr/>
            <p:nvPr/>
          </p:nvSpPr>
          <p:spPr>
            <a:xfrm>
              <a:off x="755640" y="5157720"/>
              <a:ext cx="7596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Line 6"/>
            <p:cNvSpPr/>
            <p:nvPr/>
          </p:nvSpPr>
          <p:spPr>
            <a:xfrm flipV="1">
              <a:off x="755640" y="1628280"/>
              <a:ext cx="0" cy="3529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Text Box 7"/>
          <p:cNvSpPr/>
          <p:nvPr/>
        </p:nvSpPr>
        <p:spPr>
          <a:xfrm>
            <a:off x="539640" y="5157720"/>
            <a:ext cx="20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ceptual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8"/>
          <p:cNvSpPr/>
          <p:nvPr/>
        </p:nvSpPr>
        <p:spPr>
          <a:xfrm>
            <a:off x="2232000" y="515772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9"/>
          <p:cNvSpPr/>
          <p:nvPr/>
        </p:nvSpPr>
        <p:spPr>
          <a:xfrm>
            <a:off x="4211640" y="515772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0"/>
          <p:cNvSpPr/>
          <p:nvPr/>
        </p:nvSpPr>
        <p:spPr>
          <a:xfrm>
            <a:off x="6264360" y="515772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14"/>
          <p:cNvSpPr/>
          <p:nvPr/>
        </p:nvSpPr>
        <p:spPr>
          <a:xfrm flipV="1">
            <a:off x="2519280" y="1988640"/>
            <a:ext cx="0" cy="31323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15"/>
          <p:cNvSpPr/>
          <p:nvPr/>
        </p:nvSpPr>
        <p:spPr>
          <a:xfrm flipV="1">
            <a:off x="3851280" y="2023560"/>
            <a:ext cx="0" cy="31323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16"/>
          <p:cNvSpPr/>
          <p:nvPr/>
        </p:nvSpPr>
        <p:spPr>
          <a:xfrm flipV="1">
            <a:off x="6551640" y="2023560"/>
            <a:ext cx="0" cy="31323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7"/>
          <p:cNvSpPr/>
          <p:nvPr/>
        </p:nvSpPr>
        <p:spPr>
          <a:xfrm>
            <a:off x="792000" y="5013360"/>
            <a:ext cx="324000" cy="1443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8"/>
          <p:cNvSpPr/>
          <p:nvPr/>
        </p:nvSpPr>
        <p:spPr>
          <a:xfrm>
            <a:off x="1224000" y="4869000"/>
            <a:ext cx="323640" cy="288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9"/>
          <p:cNvSpPr/>
          <p:nvPr/>
        </p:nvSpPr>
        <p:spPr>
          <a:xfrm>
            <a:off x="1619280" y="4797360"/>
            <a:ext cx="324000" cy="3603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20"/>
          <p:cNvSpPr/>
          <p:nvPr/>
        </p:nvSpPr>
        <p:spPr>
          <a:xfrm>
            <a:off x="2050920" y="4689360"/>
            <a:ext cx="324000" cy="4683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21"/>
          <p:cNvSpPr/>
          <p:nvPr/>
        </p:nvSpPr>
        <p:spPr>
          <a:xfrm>
            <a:off x="2612880" y="4465800"/>
            <a:ext cx="324000" cy="69372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22"/>
          <p:cNvSpPr/>
          <p:nvPr/>
        </p:nvSpPr>
        <p:spPr>
          <a:xfrm>
            <a:off x="3002040" y="4268880"/>
            <a:ext cx="323640" cy="8874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3"/>
          <p:cNvSpPr/>
          <p:nvPr/>
        </p:nvSpPr>
        <p:spPr>
          <a:xfrm>
            <a:off x="3416400" y="3994200"/>
            <a:ext cx="323640" cy="11523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24"/>
          <p:cNvSpPr/>
          <p:nvPr/>
        </p:nvSpPr>
        <p:spPr>
          <a:xfrm>
            <a:off x="3960720" y="3824280"/>
            <a:ext cx="324000" cy="1333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25"/>
          <p:cNvSpPr/>
          <p:nvPr/>
        </p:nvSpPr>
        <p:spPr>
          <a:xfrm>
            <a:off x="4356000" y="3494160"/>
            <a:ext cx="324000" cy="166356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26"/>
          <p:cNvSpPr/>
          <p:nvPr/>
        </p:nvSpPr>
        <p:spPr>
          <a:xfrm>
            <a:off x="4788000" y="2997360"/>
            <a:ext cx="323640" cy="216036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7"/>
          <p:cNvSpPr/>
          <p:nvPr/>
        </p:nvSpPr>
        <p:spPr>
          <a:xfrm>
            <a:off x="7523280" y="4400640"/>
            <a:ext cx="323640" cy="75708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8"/>
          <p:cNvSpPr/>
          <p:nvPr/>
        </p:nvSpPr>
        <p:spPr>
          <a:xfrm>
            <a:off x="7128000" y="3968640"/>
            <a:ext cx="323640" cy="118908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9"/>
          <p:cNvSpPr/>
          <p:nvPr/>
        </p:nvSpPr>
        <p:spPr>
          <a:xfrm>
            <a:off x="6696000" y="3392640"/>
            <a:ext cx="324000" cy="176508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31"/>
          <p:cNvSpPr/>
          <p:nvPr/>
        </p:nvSpPr>
        <p:spPr>
          <a:xfrm>
            <a:off x="7920000" y="4797360"/>
            <a:ext cx="324000" cy="36036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2"/>
          <p:cNvSpPr/>
          <p:nvPr/>
        </p:nvSpPr>
        <p:spPr>
          <a:xfrm>
            <a:off x="5219640" y="2421000"/>
            <a:ext cx="324000" cy="273672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33"/>
          <p:cNvSpPr/>
          <p:nvPr/>
        </p:nvSpPr>
        <p:spPr>
          <a:xfrm>
            <a:off x="6119640" y="2816280"/>
            <a:ext cx="324000" cy="234144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34"/>
          <p:cNvSpPr/>
          <p:nvPr/>
        </p:nvSpPr>
        <p:spPr>
          <a:xfrm>
            <a:off x="5688000" y="2349360"/>
            <a:ext cx="324000" cy="280836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33"/>
          <p:cNvSpPr/>
          <p:nvPr/>
        </p:nvSpPr>
        <p:spPr>
          <a:xfrm>
            <a:off x="3860640" y="5529240"/>
            <a:ext cx="48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 1.3 Project Life Cycle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20D14C-324E-4CA2-9B19-71AF75E52AA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Life Cyc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onceptualiz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the development of the initial goal and technical specifica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Plann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all detailed specifications, schedules, schematics, and plans are develop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Execu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the actual “work” of the project is perform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ermin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project is transferred to the customer, resources reassigned, project is closed ou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6BE953-E4FB-4D57-982B-C793972DF4B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ject Life Cycles and Their Effec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Group 34"/>
          <p:cNvGrpSpPr/>
          <p:nvPr/>
        </p:nvGrpSpPr>
        <p:grpSpPr>
          <a:xfrm>
            <a:off x="539640" y="1521000"/>
            <a:ext cx="7812000" cy="4473360"/>
            <a:chOff x="539640" y="1521000"/>
            <a:chExt cx="7812000" cy="4473360"/>
          </a:xfrm>
        </p:grpSpPr>
        <p:grpSp>
          <p:nvGrpSpPr>
            <p:cNvPr id="105" name="Group 5"/>
            <p:cNvGrpSpPr/>
            <p:nvPr/>
          </p:nvGrpSpPr>
          <p:grpSpPr>
            <a:xfrm>
              <a:off x="755640" y="1521000"/>
              <a:ext cx="7596000" cy="4104720"/>
              <a:chOff x="755640" y="1521000"/>
              <a:chExt cx="7596000" cy="4104720"/>
            </a:xfrm>
          </p:grpSpPr>
          <p:sp>
            <p:nvSpPr>
              <p:cNvPr id="106" name="Line 6"/>
              <p:cNvSpPr/>
              <p:nvPr/>
            </p:nvSpPr>
            <p:spPr>
              <a:xfrm>
                <a:off x="755640" y="5625720"/>
                <a:ext cx="75960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Line 7"/>
              <p:cNvSpPr/>
              <p:nvPr/>
            </p:nvSpPr>
            <p:spPr>
              <a:xfrm flipV="1">
                <a:off x="755640" y="1521000"/>
                <a:ext cx="0" cy="41047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" name="Text Box 8"/>
            <p:cNvSpPr/>
            <p:nvPr/>
          </p:nvSpPr>
          <p:spPr>
            <a:xfrm>
              <a:off x="539640" y="5626080"/>
              <a:ext cx="201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onceptualiz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Text Box 9"/>
            <p:cNvSpPr/>
            <p:nvPr/>
          </p:nvSpPr>
          <p:spPr>
            <a:xfrm>
              <a:off x="2232000" y="5626080"/>
              <a:ext cx="201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lan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Text Box 10"/>
            <p:cNvSpPr/>
            <p:nvPr/>
          </p:nvSpPr>
          <p:spPr>
            <a:xfrm>
              <a:off x="4211640" y="5626080"/>
              <a:ext cx="201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xecu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Text Box 11"/>
            <p:cNvSpPr/>
            <p:nvPr/>
          </p:nvSpPr>
          <p:spPr>
            <a:xfrm>
              <a:off x="6264360" y="5626080"/>
              <a:ext cx="201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ermin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14"/>
            <p:cNvSpPr/>
            <p:nvPr/>
          </p:nvSpPr>
          <p:spPr>
            <a:xfrm flipV="1">
              <a:off x="6551640" y="1591920"/>
              <a:ext cx="0" cy="403236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Line 32"/>
            <p:cNvSpPr/>
            <p:nvPr/>
          </p:nvSpPr>
          <p:spPr>
            <a:xfrm flipV="1">
              <a:off x="3708360" y="1591920"/>
              <a:ext cx="0" cy="403236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Line 33"/>
            <p:cNvSpPr/>
            <p:nvPr/>
          </p:nvSpPr>
          <p:spPr>
            <a:xfrm flipV="1">
              <a:off x="2484360" y="1557000"/>
              <a:ext cx="0" cy="403236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Freeform 36"/>
          <p:cNvSpPr/>
          <p:nvPr/>
        </p:nvSpPr>
        <p:spPr>
          <a:xfrm>
            <a:off x="731880" y="2060640"/>
            <a:ext cx="7296120" cy="2916000"/>
          </a:xfrm>
          <a:custGeom>
            <a:avLst/>
            <a:gdLst>
              <a:gd name="textAreaLeft" fmla="*/ 0 w 7296120"/>
              <a:gd name="textAreaRight" fmla="*/ 7296480 w 7296120"/>
              <a:gd name="textAreaTop" fmla="*/ 0 h 2916000"/>
              <a:gd name="textAreaBottom" fmla="*/ 2916360 h 2916000"/>
            </a:gdLst>
            <a:ahLst/>
            <a:rect l="textAreaLeft" t="textAreaTop" r="textAreaRight" b="textAreaBottom"/>
            <a:pathLst>
              <a:path w="4596" h="1837">
                <a:moveTo>
                  <a:pt x="15" y="0"/>
                </a:moveTo>
                <a:cubicBezTo>
                  <a:pt x="7" y="210"/>
                  <a:pt x="0" y="420"/>
                  <a:pt x="763" y="726"/>
                </a:cubicBezTo>
                <a:cubicBezTo>
                  <a:pt x="1526" y="1032"/>
                  <a:pt x="3061" y="1434"/>
                  <a:pt x="4596" y="1837"/>
                </a:cubicBezTo>
              </a:path>
            </a:pathLst>
          </a:cu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Freeform 38"/>
          <p:cNvSpPr/>
          <p:nvPr/>
        </p:nvSpPr>
        <p:spPr>
          <a:xfrm rot="21207600">
            <a:off x="647640" y="2421000"/>
            <a:ext cx="7740720" cy="2592360"/>
          </a:xfrm>
          <a:custGeom>
            <a:avLst/>
            <a:gdLst>
              <a:gd name="textAreaLeft" fmla="*/ 0 w 7740720"/>
              <a:gd name="textAreaRight" fmla="*/ 7741080 w 7740720"/>
              <a:gd name="textAreaTop" fmla="*/ 0 h 2592360"/>
              <a:gd name="textAreaBottom" fmla="*/ 2592360 h 2592360"/>
            </a:gdLst>
            <a:ahLst/>
            <a:rect l="textAreaLeft" t="textAreaTop" r="textAreaRight" b="textAreaBottom"/>
            <a:pathLst>
              <a:path w="4876" h="1633">
                <a:moveTo>
                  <a:pt x="0" y="1361"/>
                </a:moveTo>
                <a:cubicBezTo>
                  <a:pt x="206" y="1497"/>
                  <a:pt x="412" y="1633"/>
                  <a:pt x="1225" y="1406"/>
                </a:cubicBezTo>
                <a:cubicBezTo>
                  <a:pt x="2038" y="1179"/>
                  <a:pt x="3457" y="589"/>
                  <a:pt x="4876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lgDash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Freeform 39"/>
          <p:cNvSpPr/>
          <p:nvPr/>
        </p:nvSpPr>
        <p:spPr>
          <a:xfrm rot="192600">
            <a:off x="718920" y="1449000"/>
            <a:ext cx="7669080" cy="3492360"/>
          </a:xfrm>
          <a:custGeom>
            <a:avLst/>
            <a:gdLst>
              <a:gd name="textAreaLeft" fmla="*/ 0 w 7669080"/>
              <a:gd name="textAreaRight" fmla="*/ 7669440 w 7669080"/>
              <a:gd name="textAreaTop" fmla="*/ 0 h 3492360"/>
              <a:gd name="textAreaBottom" fmla="*/ 3492720 h 3492360"/>
            </a:gdLst>
            <a:ahLst/>
            <a:rect l="textAreaLeft" t="textAreaTop" r="textAreaRight" b="textAreaBottom"/>
            <a:pathLst>
              <a:path w="5080" h="2245">
                <a:moveTo>
                  <a:pt x="0" y="382"/>
                </a:moveTo>
                <a:cubicBezTo>
                  <a:pt x="756" y="1313"/>
                  <a:pt x="1512" y="2245"/>
                  <a:pt x="2200" y="2241"/>
                </a:cubicBezTo>
                <a:cubicBezTo>
                  <a:pt x="2888" y="2237"/>
                  <a:pt x="3648" y="718"/>
                  <a:pt x="4128" y="359"/>
                </a:cubicBezTo>
                <a:cubicBezTo>
                  <a:pt x="4608" y="0"/>
                  <a:pt x="4921" y="132"/>
                  <a:pt x="5080" y="87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Freeform 40"/>
          <p:cNvSpPr/>
          <p:nvPr/>
        </p:nvSpPr>
        <p:spPr>
          <a:xfrm>
            <a:off x="755640" y="2038320"/>
            <a:ext cx="7596360" cy="1311480"/>
          </a:xfrm>
          <a:custGeom>
            <a:avLst/>
            <a:gdLst>
              <a:gd name="textAreaLeft" fmla="*/ 0 w 7596360"/>
              <a:gd name="textAreaRight" fmla="*/ 7596720 w 7596360"/>
              <a:gd name="textAreaTop" fmla="*/ 0 h 1311480"/>
              <a:gd name="textAreaBottom" fmla="*/ 1311840 h 1311480"/>
            </a:gdLst>
            <a:ahLst/>
            <a:rect l="textAreaLeft" t="textAreaTop" r="textAreaRight" b="textAreaBottom"/>
            <a:pathLst>
              <a:path w="4785" h="826">
                <a:moveTo>
                  <a:pt x="0" y="513"/>
                </a:moveTo>
                <a:cubicBezTo>
                  <a:pt x="474" y="526"/>
                  <a:pt x="949" y="539"/>
                  <a:pt x="1202" y="513"/>
                </a:cubicBezTo>
                <a:cubicBezTo>
                  <a:pt x="1455" y="487"/>
                  <a:pt x="1254" y="430"/>
                  <a:pt x="1519" y="354"/>
                </a:cubicBezTo>
                <a:cubicBezTo>
                  <a:pt x="1784" y="278"/>
                  <a:pt x="2340" y="0"/>
                  <a:pt x="2790" y="60"/>
                </a:cubicBezTo>
                <a:cubicBezTo>
                  <a:pt x="3240" y="120"/>
                  <a:pt x="3886" y="608"/>
                  <a:pt x="4218" y="717"/>
                </a:cubicBezTo>
                <a:cubicBezTo>
                  <a:pt x="4550" y="826"/>
                  <a:pt x="4667" y="771"/>
                  <a:pt x="4785" y="717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Freeform 41"/>
          <p:cNvSpPr/>
          <p:nvPr/>
        </p:nvSpPr>
        <p:spPr>
          <a:xfrm rot="21435000">
            <a:off x="755640" y="1449000"/>
            <a:ext cx="7524720" cy="3708360"/>
          </a:xfrm>
          <a:custGeom>
            <a:avLst/>
            <a:gdLst>
              <a:gd name="textAreaLeft" fmla="*/ 0 w 7524720"/>
              <a:gd name="textAreaRight" fmla="*/ 7525080 w 7524720"/>
              <a:gd name="textAreaTop" fmla="*/ 0 h 3708360"/>
              <a:gd name="textAreaBottom" fmla="*/ 3708720 h 3708360"/>
            </a:gdLst>
            <a:ahLst/>
            <a:rect l="textAreaLeft" t="textAreaTop" r="textAreaRight" b="textAreaBottom"/>
            <a:pathLst>
              <a:path w="5103" h="2623">
                <a:moveTo>
                  <a:pt x="0" y="2623"/>
                </a:moveTo>
                <a:cubicBezTo>
                  <a:pt x="790" y="1993"/>
                  <a:pt x="1580" y="1364"/>
                  <a:pt x="2041" y="967"/>
                </a:cubicBezTo>
                <a:cubicBezTo>
                  <a:pt x="2502" y="570"/>
                  <a:pt x="2548" y="374"/>
                  <a:pt x="2767" y="242"/>
                </a:cubicBezTo>
                <a:cubicBezTo>
                  <a:pt x="2986" y="110"/>
                  <a:pt x="3070" y="0"/>
                  <a:pt x="3357" y="174"/>
                </a:cubicBezTo>
                <a:cubicBezTo>
                  <a:pt x="3644" y="348"/>
                  <a:pt x="4200" y="1115"/>
                  <a:pt x="4491" y="1285"/>
                </a:cubicBezTo>
                <a:cubicBezTo>
                  <a:pt x="4782" y="1455"/>
                  <a:pt x="4942" y="1324"/>
                  <a:pt x="5103" y="1194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lgDashDot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42"/>
          <p:cNvSpPr/>
          <p:nvPr/>
        </p:nvSpPr>
        <p:spPr>
          <a:xfrm>
            <a:off x="7164360" y="4941720"/>
            <a:ext cx="16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certain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43"/>
          <p:cNvSpPr/>
          <p:nvPr/>
        </p:nvSpPr>
        <p:spPr>
          <a:xfrm>
            <a:off x="7201080" y="1376280"/>
            <a:ext cx="161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ent Inter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44"/>
          <p:cNvSpPr/>
          <p:nvPr/>
        </p:nvSpPr>
        <p:spPr>
          <a:xfrm>
            <a:off x="7164360" y="2133720"/>
            <a:ext cx="16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ject Sta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45"/>
          <p:cNvSpPr/>
          <p:nvPr/>
        </p:nvSpPr>
        <p:spPr>
          <a:xfrm>
            <a:off x="7128000" y="3357720"/>
            <a:ext cx="16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46"/>
          <p:cNvSpPr/>
          <p:nvPr/>
        </p:nvSpPr>
        <p:spPr>
          <a:xfrm>
            <a:off x="7343640" y="2673360"/>
            <a:ext cx="16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25"/>
          <p:cNvSpPr/>
          <p:nvPr/>
        </p:nvSpPr>
        <p:spPr>
          <a:xfrm>
            <a:off x="6429240" y="6008760"/>
            <a:ext cx="113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 1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7CDC33-977B-42CB-84FE-D66B9CE6E3F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18960" y="-360"/>
            <a:ext cx="8469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Quadruple Constraint of Project Succ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Group 24"/>
          <p:cNvGrpSpPr/>
          <p:nvPr/>
        </p:nvGrpSpPr>
        <p:grpSpPr>
          <a:xfrm>
            <a:off x="1365120" y="1413000"/>
            <a:ext cx="5333760" cy="4724280"/>
            <a:chOff x="1365120" y="1413000"/>
            <a:chExt cx="5333760" cy="4724280"/>
          </a:xfrm>
        </p:grpSpPr>
        <p:sp>
          <p:nvSpPr>
            <p:cNvPr id="128" name="Oval 10"/>
            <p:cNvSpPr/>
            <p:nvPr/>
          </p:nvSpPr>
          <p:spPr>
            <a:xfrm>
              <a:off x="1365120" y="1413000"/>
              <a:ext cx="3733560" cy="3276360"/>
            </a:xfrm>
            <a:prstGeom prst="ellipse">
              <a:avLst/>
            </a:prstGeom>
            <a:solidFill>
              <a:srgbClr val="99cc00">
                <a:alpha val="30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Oval 19"/>
            <p:cNvSpPr/>
            <p:nvPr/>
          </p:nvSpPr>
          <p:spPr>
            <a:xfrm>
              <a:off x="2965320" y="2860560"/>
              <a:ext cx="3733560" cy="3276720"/>
            </a:xfrm>
            <a:prstGeom prst="ellipse">
              <a:avLst/>
            </a:prstGeom>
            <a:solidFill>
              <a:srgbClr val="ccffff">
                <a:alpha val="30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20"/>
            <p:cNvSpPr/>
            <p:nvPr/>
          </p:nvSpPr>
          <p:spPr>
            <a:xfrm>
              <a:off x="1365120" y="2860560"/>
              <a:ext cx="3733560" cy="3276720"/>
            </a:xfrm>
            <a:prstGeom prst="ellipse">
              <a:avLst/>
            </a:prstGeom>
            <a:solidFill>
              <a:srgbClr val="ff99cc">
                <a:alpha val="30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21"/>
            <p:cNvSpPr/>
            <p:nvPr/>
          </p:nvSpPr>
          <p:spPr>
            <a:xfrm>
              <a:off x="2965320" y="1413000"/>
              <a:ext cx="3733560" cy="3276360"/>
            </a:xfrm>
            <a:prstGeom prst="ellipse">
              <a:avLst/>
            </a:prstGeom>
            <a:solidFill>
              <a:srgbClr val="ffcc99">
                <a:alpha val="30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Text Box 14"/>
            <p:cNvSpPr/>
            <p:nvPr/>
          </p:nvSpPr>
          <p:spPr>
            <a:xfrm>
              <a:off x="3422520" y="3546360"/>
              <a:ext cx="112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ucc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Text Box 15"/>
            <p:cNvSpPr/>
            <p:nvPr/>
          </p:nvSpPr>
          <p:spPr>
            <a:xfrm>
              <a:off x="1822320" y="2174760"/>
              <a:ext cx="112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Budge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Text Box 16"/>
            <p:cNvSpPr/>
            <p:nvPr/>
          </p:nvSpPr>
          <p:spPr>
            <a:xfrm>
              <a:off x="5022720" y="1793880"/>
              <a:ext cx="152388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li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cceptan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Text Box 17"/>
            <p:cNvSpPr/>
            <p:nvPr/>
          </p:nvSpPr>
          <p:spPr>
            <a:xfrm>
              <a:off x="1669680" y="50706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chedu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Text Box 18"/>
            <p:cNvSpPr/>
            <p:nvPr/>
          </p:nvSpPr>
          <p:spPr>
            <a:xfrm>
              <a:off x="4870080" y="507060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erforman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D2BAF5-0B18-486B-B3AE-054EA38525B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ix Criteria for IT Project Succe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em qu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ormation qu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 satisf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ividual Imp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zational imp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3CA4C9-269D-4B9B-810C-69657CBC1E3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ur Dimensions of Project Succ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Group 21"/>
          <p:cNvGrpSpPr/>
          <p:nvPr/>
        </p:nvGrpSpPr>
        <p:grpSpPr>
          <a:xfrm>
            <a:off x="609480" y="1371600"/>
            <a:ext cx="7772400" cy="4595400"/>
            <a:chOff x="609480" y="1371600"/>
            <a:chExt cx="7772400" cy="4595400"/>
          </a:xfrm>
        </p:grpSpPr>
        <p:grpSp>
          <p:nvGrpSpPr>
            <p:cNvPr id="141" name="Group 15"/>
            <p:cNvGrpSpPr/>
            <p:nvPr/>
          </p:nvGrpSpPr>
          <p:grpSpPr>
            <a:xfrm>
              <a:off x="609480" y="1371600"/>
              <a:ext cx="7772400" cy="4595400"/>
              <a:chOff x="609480" y="1371600"/>
              <a:chExt cx="7772400" cy="4595400"/>
            </a:xfrm>
          </p:grpSpPr>
          <p:grpSp>
            <p:nvGrpSpPr>
              <p:cNvPr id="142" name="Group 11"/>
              <p:cNvGrpSpPr/>
              <p:nvPr/>
            </p:nvGrpSpPr>
            <p:grpSpPr>
              <a:xfrm>
                <a:off x="609480" y="1371600"/>
                <a:ext cx="7772400" cy="4595400"/>
                <a:chOff x="609480" y="1371600"/>
                <a:chExt cx="7772400" cy="4595400"/>
              </a:xfrm>
            </p:grpSpPr>
            <p:grpSp>
              <p:nvGrpSpPr>
                <p:cNvPr id="143" name="Group 7"/>
                <p:cNvGrpSpPr/>
                <p:nvPr/>
              </p:nvGrpSpPr>
              <p:grpSpPr>
                <a:xfrm>
                  <a:off x="1295280" y="1752480"/>
                  <a:ext cx="7086600" cy="3429000"/>
                  <a:chOff x="1295280" y="1752480"/>
                  <a:chExt cx="7086600" cy="3429000"/>
                </a:xfrm>
              </p:grpSpPr>
              <p:sp>
                <p:nvSpPr>
                  <p:cNvPr id="144" name="Rectangle 4"/>
                  <p:cNvSpPr/>
                  <p:nvPr/>
                </p:nvSpPr>
                <p:spPr>
                  <a:xfrm>
                    <a:off x="1295280" y="2133360"/>
                    <a:ext cx="6629400" cy="30481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Line 5"/>
                  <p:cNvSpPr/>
                  <p:nvPr/>
                </p:nvSpPr>
                <p:spPr>
                  <a:xfrm>
                    <a:off x="7467480" y="5181480"/>
                    <a:ext cx="9144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  <a:tailEnd len="lg" type="triangle" w="lg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Line 6"/>
                  <p:cNvSpPr/>
                  <p:nvPr/>
                </p:nvSpPr>
                <p:spPr>
                  <a:xfrm flipV="1">
                    <a:off x="1295280" y="1752480"/>
                    <a:ext cx="0" cy="9144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  <a:tailEnd len="lg" type="triangle" w="lg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7" name="Text Box 8"/>
                <p:cNvSpPr/>
                <p:nvPr/>
              </p:nvSpPr>
              <p:spPr>
                <a:xfrm>
                  <a:off x="1143000" y="5181480"/>
                  <a:ext cx="1523880" cy="78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Project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Completion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" name="Text Box 9"/>
                <p:cNvSpPr/>
                <p:nvPr/>
              </p:nvSpPr>
              <p:spPr>
                <a:xfrm>
                  <a:off x="7315200" y="5181480"/>
                  <a:ext cx="9144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Time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Text Box 10"/>
                <p:cNvSpPr/>
                <p:nvPr/>
              </p:nvSpPr>
              <p:spPr>
                <a:xfrm>
                  <a:off x="609480" y="1371600"/>
                  <a:ext cx="16002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Importance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0" name="Line 12"/>
              <p:cNvSpPr/>
              <p:nvPr/>
            </p:nvSpPr>
            <p:spPr>
              <a:xfrm>
                <a:off x="1295280" y="2133720"/>
                <a:ext cx="1676520" cy="30477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Line 13"/>
              <p:cNvSpPr/>
              <p:nvPr/>
            </p:nvSpPr>
            <p:spPr>
              <a:xfrm>
                <a:off x="2743200" y="2133720"/>
                <a:ext cx="2514600" cy="30477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Line 14"/>
              <p:cNvSpPr/>
              <p:nvPr/>
            </p:nvSpPr>
            <p:spPr>
              <a:xfrm>
                <a:off x="4343400" y="2133720"/>
                <a:ext cx="3581280" cy="18288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3" name="Text Box 16"/>
            <p:cNvSpPr/>
            <p:nvPr/>
          </p:nvSpPr>
          <p:spPr>
            <a:xfrm>
              <a:off x="1219320" y="3886200"/>
              <a:ext cx="1447560" cy="98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rojec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fficienc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Text Box 17"/>
            <p:cNvSpPr/>
            <p:nvPr/>
          </p:nvSpPr>
          <p:spPr>
            <a:xfrm>
              <a:off x="6095880" y="2286000"/>
              <a:ext cx="1752840" cy="98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reparing f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he Futu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Text Box 18"/>
            <p:cNvSpPr/>
            <p:nvPr/>
          </p:nvSpPr>
          <p:spPr>
            <a:xfrm>
              <a:off x="2666880" y="3657600"/>
              <a:ext cx="1447920" cy="98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mpact 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ustom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Text Box 19"/>
            <p:cNvSpPr/>
            <p:nvPr/>
          </p:nvSpPr>
          <p:spPr>
            <a:xfrm>
              <a:off x="4648320" y="3200400"/>
              <a:ext cx="1447560" cy="86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usiness Succ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6EA745-DB6C-4DCD-B7C8-B3FDBB9CB71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ing Project Management Matu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ject management maturity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nter for business pract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zner’s project management maturity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I International’s project fram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I’s capability maturity model integ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A39938-C801-4CBB-AF46-177469E7E9B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ider Web Dia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0" name="Object 4"/>
          <p:cNvGraphicFramePr/>
          <p:nvPr/>
        </p:nvGraphicFramePr>
        <p:xfrm>
          <a:off x="990720" y="1371600"/>
          <a:ext cx="7162560" cy="4643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1" name="Object 4" descr=""/>
                  <p:cNvPicPr/>
                  <p:nvPr/>
                </p:nvPicPr>
                <p:blipFill>
                  <a:blip r:embed="rId2">
                    <a:alphaModFix amt="0"/>
                  </a:blip>
                  <a:stretch/>
                </p:blipFill>
                <p:spPr>
                  <a:xfrm>
                    <a:off x="990720" y="1371600"/>
                    <a:ext cx="7162560" cy="464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7313C5-369C-4C99-9983-45A4563D8F6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ject Management Maturity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eneric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Group 10"/>
          <p:cNvGrpSpPr/>
          <p:nvPr/>
        </p:nvGrpSpPr>
        <p:grpSpPr>
          <a:xfrm>
            <a:off x="1143000" y="1676520"/>
            <a:ext cx="6477120" cy="4495680"/>
            <a:chOff x="1143000" y="1676520"/>
            <a:chExt cx="6477120" cy="4495680"/>
          </a:xfrm>
        </p:grpSpPr>
        <p:sp>
          <p:nvSpPr>
            <p:cNvPr id="164" name="AutoShape 4"/>
            <p:cNvSpPr/>
            <p:nvPr/>
          </p:nvSpPr>
          <p:spPr>
            <a:xfrm>
              <a:off x="1143000" y="1676520"/>
              <a:ext cx="6477120" cy="44956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 Box 5"/>
            <p:cNvSpPr/>
            <p:nvPr/>
          </p:nvSpPr>
          <p:spPr>
            <a:xfrm>
              <a:off x="1600200" y="5334120"/>
              <a:ext cx="563868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Low Maturit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d hoc process, no common language, little suppo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Text Box 6"/>
            <p:cNvSpPr/>
            <p:nvPr/>
          </p:nvSpPr>
          <p:spPr>
            <a:xfrm>
              <a:off x="1600200" y="4114800"/>
              <a:ext cx="5638680" cy="87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oderate Maturit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efined practices, training programs,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rganizational suppo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7"/>
            <p:cNvSpPr/>
            <p:nvPr/>
          </p:nvSpPr>
          <p:spPr>
            <a:xfrm>
              <a:off x="3352680" y="2209680"/>
              <a:ext cx="2133720" cy="148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aturit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stitutionalized,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eeks continuous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mprovem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8"/>
            <p:cNvSpPr/>
            <p:nvPr/>
          </p:nvSpPr>
          <p:spPr>
            <a:xfrm>
              <a:off x="2843280" y="3824280"/>
              <a:ext cx="30970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9"/>
            <p:cNvSpPr/>
            <p:nvPr/>
          </p:nvSpPr>
          <p:spPr>
            <a:xfrm>
              <a:off x="1905120" y="5105520"/>
              <a:ext cx="4952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B07A7F-9DF3-4C91-8204-F78B9F2C797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 of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lit the at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nel between England and Fr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e Windows Vis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neyland’s Expedition Ever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rojects, rather than repetitive tasks, are now the basis for most value-added in busines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Tom Pe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0A833F-60A8-4403-B81A-E48A4E22708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ject Elements and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xt Organ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139" descr="pinto01_fig01"/>
          <p:cNvPicPr/>
          <p:nvPr/>
        </p:nvPicPr>
        <p:blipFill>
          <a:blip r:embed="rId1"/>
          <a:stretch/>
        </p:blipFill>
        <p:spPr>
          <a:xfrm>
            <a:off x="1332000" y="1665360"/>
            <a:ext cx="6737400" cy="4329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430325-A54C-44CE-AB52-3B6858B90EF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4" descr="copyright"/>
          <p:cNvPicPr/>
          <p:nvPr/>
        </p:nvPicPr>
        <p:blipFill>
          <a:blip r:embed="rId1"/>
          <a:stretch/>
        </p:blipFill>
        <p:spPr>
          <a:xfrm>
            <a:off x="0" y="2136600"/>
            <a:ext cx="9144000" cy="2857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EB7B94-BD2E-494C-BA40-122CE9CBCCD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vs. Process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8862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ke place outside the process wor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que and separate from normal organization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inually evolv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4572000" y="1600200"/>
            <a:ext cx="388620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going, day-to-day acti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existing systems, properties, and capabi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ically repeti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811080" y="4998960"/>
            <a:ext cx="723924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 project is a temporary endeavor undertaken to create a unique product or servi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MBoK 2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0772AA-E5B9-41C1-B574-6E4CEE4B820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ditional Defini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 project is a unique venture with a beginning and an end, conducted by people to meet established goals within parameters of cost, schedule and quality.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uchanan &amp; Boddy 9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rojects are goal-oriented, involve the coordinated undertaking of interrelated activities, are of finite duration, and are all, to a degree unique.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rame 9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7C6945-D387-414A-9D5B-E0F747F9810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s of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Comple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one-time pro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Limit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y budget, schedule, and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ed to resolve a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clear goal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set of go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Customer-focu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35369A-06B0-4209-AEF1-C2830F927BC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eneral Project Characteristic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1/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Ad-ho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ndeavors with a clear life cy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Building block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e design and execution of organizational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ponsible for the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newe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most improved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produ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services, and organizational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a philosophy and strategy for the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management of 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191D6A-FB33-4EC6-A44F-8BC4A9D4585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eneral Project Characteristic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2/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ail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cross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unctional and organization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bound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Traditional management function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planning, organizing, motivating, directing, and controlling appl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cipal outcomes are the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satisfaction of customer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ments within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technical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,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co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schedule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Terminat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upon successful comple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9FF492-3AEB-4DAF-B328-132B9EDDBBF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cess &amp; Project Managemen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Table 1.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76"/>
          <p:cNvSpPr/>
          <p:nvPr/>
        </p:nvSpPr>
        <p:spPr>
          <a:xfrm>
            <a:off x="358920" y="1305000"/>
            <a:ext cx="4103640" cy="544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eat process or produ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ral object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go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ople are homogene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s in place to integrate effo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ance, cost, &amp; time kn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 of the line organ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tions of established pract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orts status qu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78"/>
          <p:cNvSpPr/>
          <p:nvPr/>
        </p:nvSpPr>
        <p:spPr>
          <a:xfrm>
            <a:off x="4608360" y="1305000"/>
            <a:ext cx="4211640" cy="544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process or produ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e obje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e shot – limited lif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heterogene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s must be created to integrate effo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ance, cost &amp; time less cert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side of line organ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olates established pract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sets status qu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867971-9CEB-4F5A-84A6-3F44771C855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Success R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ftware &amp; hardware projects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fail at a 65%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Over hal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all IT projects become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runaw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 to 75% of all software projects are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ancel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2.5%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global businesses achieve 100%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project suc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verage succes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business-critical application development projects is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35%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5F1A90-0FAE-402D-8DB3-5838D8375BC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3T14:51:49Z</dcterms:created>
  <dc:creator>Geoff Willis</dc:creator>
  <dc:description/>
  <dc:language>en-US</dc:language>
  <cp:lastModifiedBy>KS</cp:lastModifiedBy>
  <dcterms:modified xsi:type="dcterms:W3CDTF">2009-08-15T22:12:22Z</dcterms:modified>
  <cp:revision>40</cp:revision>
  <dc:subject/>
  <dc:title>Introduction: Why Project Management?</dc:title>
</cp:coreProperties>
</file>